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66741-4233-43A2-9382-C43F7597E61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CCF5F-E3F4-4AA4-B58A-ACB211689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65B4F-D380-4E5C-89FF-010BF9CBC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18A-8927-4940-AE0F-853472DB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A57-880E-4AC2-B011-D70560FD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57D-2D27-4F8A-851B-318BCC7F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D23-42B5-462F-AD73-163112CA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CFC-D9F5-44A7-8B23-A99579CB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4FD-0086-4EED-AB71-051A3BD0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B273-F078-4146-9695-8D356358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561-E788-447D-B999-2A5BD7B8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980-4E34-4FA9-ADEB-4BC0758C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02B-F224-4107-AD06-894EF2EA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022-90D9-4C98-AA37-5312E24C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849-BA39-4A50-95C5-988BAA30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3A062-2598-4906-9ED8-B30174003F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9F9E6-D146-4FC2-893B-0E85A5992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Calibri"/>
              </a:rPr>
              <a:t>What is plate tectonics?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1. What is a tectonic plate?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2. Why do plates move?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200" spc="-1" strike="noStrike" u="sng">
                <a:solidFill>
                  <a:srgbClr val="000000"/>
                </a:solidFill>
                <a:uFillTx/>
                <a:latin typeface="Calibri"/>
              </a:rPr>
              <a:t>The places where plates meet are called plate boundaries.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986440" y="2438280"/>
            <a:ext cx="29559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vergent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228600" y="14176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At a divergent boundary tectonic plates move away from each oth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529160" y="1600200"/>
            <a:ext cx="4614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What are plate boundaries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How do plates move at a divergent boundary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rgent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At a convergent boundary tectonic plates move towards each other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4114800" y="1219320"/>
            <a:ext cx="4572000" cy="2752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5600880" y="4314960"/>
            <a:ext cx="3085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orm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At a transform boundary tectonic plates slide past each other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670560" cy="2222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8005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1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Which way to plates move at a convergent boundary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How do plates move at a transform boundary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ite boards </a:t>
            </a:r>
            <a:r>
              <a:rPr b="0" lang="en-US" sz="5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s is the name for a supercontinent that existed 250 million years ago.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e different pieces of the earth’s crust are called these. (2 words)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put – notes on plate bound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Practice – Team Work with white bo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 –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wo plates meet at this place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Plate movement is caused by this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onvection is located in this place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ectonic plates move together at this boundary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ectonic plates move apart at this boundary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ectonic plates move side by side at this boundary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type of boundary is th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13407"/>
          <a:stretch/>
        </p:blipFill>
        <p:spPr>
          <a:xfrm>
            <a:off x="3195720" y="2914560"/>
            <a:ext cx="549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type of boundary is th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0" t="0" r="0" b="12535"/>
          <a:stretch/>
        </p:blipFill>
        <p:spPr>
          <a:xfrm>
            <a:off x="2889360" y="2633760"/>
            <a:ext cx="55688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type of boundary is th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0" r="0" b="34283"/>
          <a:stretch/>
        </p:blipFill>
        <p:spPr>
          <a:xfrm>
            <a:off x="4222800" y="3429000"/>
            <a:ext cx="44640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1 Independent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fter today, you will be able to define Pangaea and identify the types of plate boundari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Goal 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80% Maste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4.1 Plate Tectonics Class Not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14360" y="622440"/>
            <a:ext cx="52243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72720" bIns="4068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Arial"/>
              </a:rPr>
              <a:t>250 million years ago, all the continents were connected in a landmass called Pangea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075280" y="0"/>
            <a:ext cx="40687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: What was Pange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94000" y="1798560"/>
            <a:ext cx="435600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429000"/>
            <a:ext cx="86868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Earth’s crust is made of many separate pieces called tectonic plat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plate-tectonics.jpg"/>
          <p:cNvPicPr/>
          <p:nvPr/>
        </p:nvPicPr>
        <p:blipFill>
          <a:blip r:embed="rId1"/>
          <a:stretch/>
        </p:blipFill>
        <p:spPr>
          <a:xfrm>
            <a:off x="4114800" y="14400"/>
            <a:ext cx="50292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the Plates m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The plates of the Earth move because of convection currents in the mantle of the earth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572000" y="4173480"/>
            <a:ext cx="4572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58:23Z</dcterms:created>
  <dc:creator>Annie Kieran</dc:creator>
  <dc:description/>
  <dc:language>en-US</dc:language>
  <cp:lastModifiedBy>Caroline Roth</cp:lastModifiedBy>
  <dcterms:modified xsi:type="dcterms:W3CDTF">2011-05-24T02:06:23Z</dcterms:modified>
  <cp:revision>13</cp:revision>
  <dc:subject/>
  <dc:title>Plate Tectonics</dc:title>
</cp:coreProperties>
</file>